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C00-C26A-4C5E-B1C3-C3CD0AAE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3D98-DE93-42B0-B098-ED99DFE0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9E14-C134-4FAE-9875-205BEEE2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43F-D5CE-4FF4-8B7F-1C0E960F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98DA-8372-4D4A-8E6C-EEEC23E6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61DA-2E0D-4D3A-8A35-7FEB4EFA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13BD-1B48-4687-998A-53856699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D895-9460-487C-8383-6F4F8514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C52D-00FC-486D-BE4E-CC25540E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F511-3D99-4E30-8E80-6C5BD24D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5F3A-28B5-4C24-AD1F-B209DEB3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8673-0673-47CC-9930-2667445E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8C25-8E0F-49CF-91FB-41D1E4F9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FE64-71EF-458C-B1DB-5B3E823D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5ACF-C543-4C8E-81B5-DCEED1EA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546F-CF4C-44F0-82D3-5209E2A7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A675-BB35-4E43-B4E5-1660FC2E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E51D5-3BA2-4A99-B1A3-F603D3E3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2006A-FEBA-4845-91D8-29C6F46F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DE973-7C78-4237-B5A2-6B6E85FA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9F181-38F7-4830-BCF3-8C80B289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42877-1AA3-41C3-BA6E-0ADD9DA5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A85-F776-4896-9A3E-6751AD77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32150-A354-47B7-8015-DF7F5EC5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965E4-9A72-4715-87F9-A32CCB8A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3DD24-710F-46A4-BDBA-673C5F1D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5CE05-8718-4AA4-BE1E-D21626C2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13D69-EFD7-4DB4-8242-6E137864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6C6F3-D7C2-4187-918C-9F140F9A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7D322-71DE-4B48-A55A-2CEC2D61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887C7-FDE3-413A-A966-C0E3A914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E1B76-DFE3-411B-8936-AB3BB491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AF4BB-3687-4EDF-8063-54D2CD16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C70D-8184-4B04-8688-E3332DF5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65512-41BD-4E60-9391-25649BD9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F669D-3D04-4B44-8875-CD07D28A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2D854-9FDF-4010-BE9D-57538EED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492A2-0324-407E-B6A9-B9C77CE5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7F08C-28F5-4529-B653-F71FF19D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95D78-D7F6-4462-A29F-5FEE0037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EB858-C39F-4963-9316-387F5872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EA6C8-BC5E-48E4-B273-CA2B2EEE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D7EEE-5FED-4828-9756-F38097CC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DE39F-7850-4EEF-8F52-87E1CDFD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1A0-FDB8-4767-9AF2-7AD39B19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AF918-065E-4584-9EF1-F8142ABF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7A9EB-58E1-4630-8183-3BB8E50D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030FF-8294-43D5-ACBD-3BE8B432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3D83C-5480-41A6-9BB3-B3431AEE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A7EFE-B5ED-4432-82A9-FBC8163C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9D223-2B13-4D77-B75E-3268EBD4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E085F-2B6C-4540-A986-489B6E1D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E942D-BC15-46B6-A962-489CD4A7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E66BD-25D2-4EF4-95D4-B46589F7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D8690-FD9F-42C4-BF28-2FE4B17A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C59C-3A16-405D-8CA5-1D36D607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A2D9D-A98A-4337-86C1-194474E8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8C62E-68FF-4F72-908C-805EE42A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41FF0-A399-4D7F-A673-8153F4C0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BF5B3-3C90-4BBD-885B-E11575CE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62E6F-21DB-4459-8A9E-03B26586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8FE2D-7878-4511-899C-9B49918D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6A34D-2AE5-4569-B9D7-D19C6EFD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86C62-CD66-456B-8C08-7FFF4295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2E207-56CE-4044-BA66-E6D9C875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3FB16-A168-4E5C-BF7F-FEC5BB4A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85C-D4BE-4AB8-A5EB-0EFE28B1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AC036-D060-47B6-855E-62E23641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1642A-AA82-4421-B16B-B5F72DCC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76E4E-E6C3-45D0-B998-6A7EC02B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999-E5DA-42CD-8DC0-1D2AE2D9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3BD-519B-4615-B5E9-9164A5AF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7A10-4EA2-4694-96ED-D7F00CF8ADF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289D-FCB5-47E6-B64F-962DF6023C5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F8F7-28EE-4232-B000-DE4D13BB5A3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3258-F9DE-4F8B-AFAD-299A117B1AD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F537-F553-4C78-940A-B0932433114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A44B-83DF-47E4-A564-CC3518DD0D5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275292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at Darwin Didn’t Know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sically D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y idea was variation in offspring – mechanism unknow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day, we understand concepts of gamete formation, random mutation of germ line, “switches”, HOX genes etc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more data that is gathered, the more evidence is provided for natural se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uses of Microevolu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Hardy-Weinberg principle states that there are five requirements for sta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y deviation from the requirements below indicates the population is evolv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y large population siz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olation from other popul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 net mut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ndom m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 natural se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onitor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 now the question becomes, how do we watch for chan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call the Hardy-Weinberg princi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is also an equation which can predict the relative frequencies of alleles in a gene po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agine a wildflower population of 500 pla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this, there are pink allele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completely dominant over white allele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0 are white, so they would be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20 are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60 are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6248520" y="2362320"/>
            <a:ext cx="1144440" cy="761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7924680" y="2819520"/>
            <a:ext cx="9954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6840" y="6094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ce they are dipliod, the pink allele accounts for 800 of the 1000, and white 200 of the 100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 can use math to determine relative frequencies in the popul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y deviation from that means the population is evolv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tten disease is a rare recessive neurodegenerative disease, affecting 3 out of every 100 000 people in North America.  Based on this knowledge, what percentage of people are carriers and could pass it onto their offspring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swe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 define the dominant, normal allele a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nd the recessive a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ce occurrence is 3 out of 100 000,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0.0000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, frequency of recessive allele i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√0.00003 = 0.00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frequency of the dominant allele i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= 1-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= 1-0.005 = 0.99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6840" y="685800"/>
            <a:ext cx="7467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The frequency of carriers would be 2</a:t>
            </a:r>
            <a:r>
              <a:rPr b="0" i="1" lang="en-CA" sz="3000" spc="-1" strike="noStrike">
                <a:solidFill>
                  <a:srgbClr val="ffffff"/>
                </a:solidFill>
                <a:latin typeface="Arial"/>
              </a:rPr>
              <a:t>Bb</a:t>
            </a: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=2 x 0.995 x 0.005 = 0.009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So, approximately 1% of the population are carriers for this disea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Example (try on your own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It is believed that approximately 4% of Canadians of South American decent are carriers for the recessive condition sickle cell anemia.  If 98% of the alleles in this population are dominant, what should the prevalence of sickle cell anemia b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edictions From Darwinis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tural Selection is the only significant mechanism of ev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volutionary change is slow and gradu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evolutionary change is adop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croevolution is the same as microev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riticis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lative absence in fossil record of any transition typ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unctuated Equilibrium (Steven Jay Gould) proposed as an alterna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ssible limits to genetic vari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so much could be contributed to random, small change in g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lended inherit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vorable variation “swamped out” by backcrossing with “ordinarie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6840" y="6094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57168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n-adaptive trai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5716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ple: peacock’s tail - more energy to make, attractive to predators, et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5716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rwin’s response was sexual se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5716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videnc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rwin had a multitude of evidence he could point 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itially, it answered most questions critics h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ever, over time it wasn’t enoug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Fossil Reco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bserved many extinct species similar to those that were alive th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6840" y="380520"/>
            <a:ext cx="7467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Comparative Embry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ork by Ernst Haeckel provided sup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2" descr="http://www.newscientist.com/data/galleries/dn16745-visible-embryos/haeckels-embryos.gif"/>
          <p:cNvPicPr/>
          <p:nvPr/>
        </p:nvPicPr>
        <p:blipFill>
          <a:blip r:embed="rId1"/>
          <a:stretch/>
        </p:blipFill>
        <p:spPr>
          <a:xfrm>
            <a:off x="2286000" y="990720"/>
            <a:ext cx="51055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http://2.bp.blogspot.com/_Wa2IHGiSq3I/S7GsBI9SYfI/AAAAAAAAAMU/0mE1mXSuWC8/s1600/embryo+at+4+weeks.jpg"/>
          <p:cNvPicPr/>
          <p:nvPr/>
        </p:nvPicPr>
        <p:blipFill>
          <a:blip r:embed="rId1"/>
          <a:stretch/>
        </p:blipFill>
        <p:spPr>
          <a:xfrm>
            <a:off x="5105520" y="2286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000001183933d70a00d500f400ea005d4bcca95d_tn"/>
          <p:cNvPicPr/>
          <p:nvPr/>
        </p:nvPicPr>
        <p:blipFill>
          <a:blip r:embed="rId2"/>
          <a:stretch/>
        </p:blipFill>
        <p:spPr>
          <a:xfrm>
            <a:off x="533520" y="533520"/>
            <a:ext cx="3581280" cy="2876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112LONGIEMBRYO.jpg"/>
          <p:cNvPicPr/>
          <p:nvPr/>
        </p:nvPicPr>
        <p:blipFill>
          <a:blip r:embed="rId3"/>
          <a:stretch/>
        </p:blipFill>
        <p:spPr>
          <a:xfrm>
            <a:off x="152280" y="3733920"/>
            <a:ext cx="3962520" cy="28130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2" descr="http://thewaythetruthandthelife.us/index/3_observe/3-2/3-2-15_animal/3-2-13-1_fetus-pictures_files/dolphin-embryo.jpg"/>
          <p:cNvPicPr/>
          <p:nvPr/>
        </p:nvPicPr>
        <p:blipFill>
          <a:blip r:embed="rId4"/>
          <a:stretch/>
        </p:blipFill>
        <p:spPr>
          <a:xfrm>
            <a:off x="4876920" y="3809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6840" y="304920"/>
            <a:ext cx="7467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a behind similar embryos lead to understanding of homologous struct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http://www.bio.miami.edu/dana/pix/homologous.jpg"/>
          <p:cNvPicPr/>
          <p:nvPr/>
        </p:nvPicPr>
        <p:blipFill>
          <a:blip r:embed="rId1"/>
          <a:stretch/>
        </p:blipFill>
        <p:spPr>
          <a:xfrm>
            <a:off x="1295280" y="1447920"/>
            <a:ext cx="647712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6840" y="456840"/>
            <a:ext cx="7467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Minor Geographic Vari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alapagos Islands very important he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ed that each island had distinct species of finches, tortoises etc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ach variant was best suited for its unique enviro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Mendelian Genet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vailable at the time, but not connected until 1930’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03:42:53Z</dcterms:created>
  <dc:creator>ED18</dc:creator>
  <dc:description/>
  <dc:language>en-US</dc:language>
  <cp:lastModifiedBy>ED18</cp:lastModifiedBy>
  <dcterms:modified xsi:type="dcterms:W3CDTF">2011-12-05T04:13:52Z</dcterms:modified>
  <cp:revision>3</cp:revision>
  <dc:subject/>
  <dc:title>DARwinism</dc:title>
</cp:coreProperties>
</file>